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wmf" ContentType="image/x-wmf"/>
  <Override PartName="/ppt/media/image27.wmf" ContentType="image/x-wmf"/>
  <Override PartName="/ppt/media/image26.wmf" ContentType="image/x-wmf"/>
  <Override PartName="/ppt/media/image22.wmf" ContentType="image/x-wmf"/>
  <Override PartName="/ppt/media/image19.png" ContentType="image/png"/>
  <Override PartName="/ppt/media/image20.jpeg" ContentType="image/jpeg"/>
  <Override PartName="/ppt/media/image21.png" ContentType="image/png"/>
  <Override PartName="/ppt/media/image6.jpeg" ContentType="image/jpeg"/>
  <Override PartName="/ppt/media/image5.wmf" ContentType="image/x-wmf"/>
  <Override PartName="/ppt/media/image7.wmf" ContentType="image/x-wmf"/>
  <Override PartName="/ppt/media/image12.wmf" ContentType="image/x-wmf"/>
  <Override PartName="/ppt/media/image9.jpeg" ContentType="image/jpeg"/>
  <Override PartName="/ppt/media/image11.wmf" ContentType="image/x-wmf"/>
  <Override PartName="/ppt/media/image17.jpeg" ContentType="image/jpeg"/>
  <Override PartName="/ppt/media/image13.wmf" ContentType="image/x-wmf"/>
  <Override PartName="/ppt/media/image8.jpeg" ContentType="image/jpeg"/>
  <Override PartName="/ppt/media/image31.jpeg" ContentType="image/jpeg"/>
  <Override PartName="/ppt/media/image4.jpeg" ContentType="image/jpeg"/>
  <Override PartName="/ppt/media/image32.png" ContentType="image/png"/>
  <Override PartName="/ppt/media/image1.jpeg" ContentType="image/jpeg"/>
  <Override PartName="/ppt/media/image15.wmf" ContentType="image/x-wmf"/>
  <Override PartName="/ppt/media/image33.png" ContentType="image/png"/>
  <Override PartName="/ppt/media/image16.wmf" ContentType="image/x-wmf"/>
  <Override PartName="/ppt/media/image34.png" ContentType="image/png"/>
  <Override PartName="/ppt/media/image35.png" ContentType="image/png"/>
  <Override PartName="/ppt/media/image28.wmf" ContentType="image/x-wmf"/>
  <Override PartName="/ppt/media/image30.png" ContentType="image/png"/>
  <Override PartName="/ppt/media/image3.jpeg" ContentType="image/jpeg"/>
  <Override PartName="/ppt/media/image24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25.wmf" ContentType="image/x-wmf"/>
  <Override PartName="/ppt/media/image10.jpeg" ContentType="image/jpeg"/>
  <Override PartName="/ppt/media/image14.png" ContentType="image/png"/>
  <Override PartName="/ppt/media/image18.gif" ContentType="image/gi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A74E9-FEBD-426A-9561-EA931B8644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FA687-69FF-487B-A160-8080597F22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BBFBA-D317-46B9-984A-4D66BF1CCE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5CDD2-DCCF-4BDE-804B-8BCC5441BD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89054-17BB-4478-A7B9-5B19D60B85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65ECB-FFF6-48BE-9A63-2DDD317B52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76AA2-6004-4B70-A5B6-F26F6F0F1D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18DBA-3C9A-4ACF-BA5C-16ADD6ADEE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E9A51-A3AE-4D64-9A05-B0634363E7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B2F78-9942-4312-A297-287A8CDD8E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97980-48FF-418D-B78C-6DEA768544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0C8C9-06C1-4D7A-800E-688882765A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7F825-44F9-4773-90CB-0DDF514CBF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82302-CD9C-4878-AE6E-ABC85DABCC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FC79E-AB1B-4514-B62A-4AAC169EC8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1992B-9429-4FD9-97DF-8D4A230F09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0BD0D-30A1-4B9B-A638-DB06F04C8D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CA702-E161-4232-AE90-CCDF9CA1DF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9A3D4-5D4D-45CE-ACC5-91BD3324A1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9F763-C580-4D1D-9EF8-6C8E4635F9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326CED-E0B6-4E90-98A8-0FD6C7890F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7B12B7-91DA-42AD-8C24-1C6FA84454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A307FB-67B3-487F-BB6C-0134BF3B9D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E56D81-32BB-42A9-99E9-281262743C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6DB51-8084-49EA-A89A-1C18499AF11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6D843-FDF2-47A2-821F-F6AF133F2B8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1287A-B0D8-4EFB-9A76-29E97E7A1BA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332A7-0647-4AD3-B86C-E074C9AACE6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B335E-B33D-409B-A815-661F76A0A4C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584E0-A5B2-47DE-9A3B-7AEF80B66B1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2FB4E-E145-4E8E-A98D-8A0CF37B07E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62A72C-52AC-465E-A307-DE6ED6F04C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29162-D197-40DB-94CD-49A7F308A2A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22430-37A5-4246-825F-D671DDB4447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12292-0A73-4B8A-92B1-67A1F83C935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312B6-0F37-452A-9EA0-3160EA73AD8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7E725-B6EA-4E44-A0A5-805066B8823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6D5E89-5512-4478-927B-BE11DA8401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D85A28-C4A4-4DD2-9C77-A59E79336A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C34DC3-AA3B-4A0D-B86C-627CDE9F6C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DAB0F1-E88A-44A9-AA9C-D825292B7B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40E840-8822-4201-ABE0-602A45C0FB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5E97AA-5FA6-4F1D-BC6A-C3FF65F54E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D01C78-7BF1-4719-8877-79918D71F2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8FD9F-2905-44BC-9F1E-A95C4FA1E15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1259E-87B5-4E53-92D4-1B450A15D9F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image" Target="../media/image28.wmf"/><Relationship Id="rId4" Type="http://schemas.openxmlformats.org/officeDocument/2006/relationships/image" Target="../media/image29.wmf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2971800" y="1981080"/>
            <a:ext cx="5943600" cy="18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Purchasing and Invento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1F7DB-5A01-4E69-BE2F-69599728091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How to Implement Inventory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276720" y="2743200"/>
            <a:ext cx="3124080" cy="2057400"/>
          </a:xfrm>
          <a:prstGeom prst="ellipse">
            <a:avLst/>
          </a:prstGeom>
          <a:solidFill>
            <a:srgbClr val="ff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048120" y="3048120"/>
            <a:ext cx="312408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VENTORY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657600" y="1295280"/>
            <a:ext cx="2438280" cy="121932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477120" y="2133720"/>
            <a:ext cx="2209680" cy="129528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324480" y="4191120"/>
            <a:ext cx="2362320" cy="152388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733920" y="5029200"/>
            <a:ext cx="2361960" cy="137160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219320" y="4267080"/>
            <a:ext cx="2209680" cy="152424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143000" y="2057400"/>
            <a:ext cx="2133720" cy="144792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276720" y="1295280"/>
            <a:ext cx="27432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sign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629400" y="228600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nalyz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nee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4419720"/>
            <a:ext cx="2514600" cy="15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stablish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inimum stock nee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429000" y="5257800"/>
            <a:ext cx="25146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velop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ms and lo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62120" y="4343400"/>
            <a:ext cx="27432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stablish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ystem for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eiving, sto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85800" y="2057400"/>
            <a:ext cx="266688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intain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ventory system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in all storage ar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876920" y="2514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>
            <a:off x="6172200" y="3048120"/>
            <a:ext cx="3808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172200" y="434340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876920" y="4800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3124080" y="43434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276720" y="2895480"/>
            <a:ext cx="3808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ADC63D-8C5D-4DCA-BA72-BA07EE2F7CC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nalyze Nee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duct analysis of supply and reagent needs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20000"/>
              </a:lnSpc>
              <a:spcBef>
                <a:spcPts val="799"/>
              </a:spcBef>
              <a:buClr>
                <a:srgbClr val="0000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isting all tests in 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20000"/>
              </a:lnSpc>
              <a:spcBef>
                <a:spcPts val="799"/>
              </a:spcBef>
              <a:buClr>
                <a:srgbClr val="0000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dentifying all supplies needed for each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20000"/>
              </a:lnSpc>
              <a:spcBef>
                <a:spcPts val="799"/>
              </a:spcBef>
              <a:buClr>
                <a:srgbClr val="0000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ing available information to estimate us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9D56E5-5BB5-4700-9925-16A971EA017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nalysis of Needs: Information Requi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542880" y="1352160"/>
            <a:ext cx="8217000" cy="4578480"/>
            <a:chOff x="542880" y="1352160"/>
            <a:chExt cx="8217000" cy="4578480"/>
          </a:xfrm>
        </p:grpSpPr>
        <p:sp>
          <p:nvSpPr>
            <p:cNvPr id="279" name="_s198691"/>
            <p:cNvSpPr/>
            <p:nvPr/>
          </p:nvSpPr>
          <p:spPr>
            <a:xfrm flipH="1" flipV="1">
              <a:off x="2615400" y="3436920"/>
              <a:ext cx="1023120" cy="1908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_s198685"/>
            <p:cNvSpPr/>
            <p:nvPr/>
          </p:nvSpPr>
          <p:spPr>
            <a:xfrm>
              <a:off x="542880" y="2630880"/>
              <a:ext cx="2131200" cy="12319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5720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torage space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br>
                <a:rPr sz="16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nditions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_s198690"/>
            <p:cNvSpPr/>
            <p:nvPr/>
          </p:nvSpPr>
          <p:spPr>
            <a:xfrm flipH="1">
              <a:off x="3392640" y="4312800"/>
              <a:ext cx="630360" cy="504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_s198672"/>
            <p:cNvSpPr/>
            <p:nvPr/>
          </p:nvSpPr>
          <p:spPr>
            <a:xfrm>
              <a:off x="1705320" y="4698360"/>
              <a:ext cx="2131200" cy="12322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5720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Order lead time/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elivery time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_s198689"/>
            <p:cNvSpPr/>
            <p:nvPr/>
          </p:nvSpPr>
          <p:spPr>
            <a:xfrm>
              <a:off x="5271840" y="4312800"/>
              <a:ext cx="634680" cy="5022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_s198670"/>
            <p:cNvSpPr/>
            <p:nvPr/>
          </p:nvSpPr>
          <p:spPr>
            <a:xfrm>
              <a:off x="5465520" y="4698360"/>
              <a:ext cx="2131200" cy="12322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5720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riority Level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_s198688"/>
            <p:cNvSpPr/>
            <p:nvPr/>
          </p:nvSpPr>
          <p:spPr>
            <a:xfrm flipV="1">
              <a:off x="5657040" y="3434400"/>
              <a:ext cx="1023120" cy="1929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_s198667"/>
            <p:cNvSpPr/>
            <p:nvPr/>
          </p:nvSpPr>
          <p:spPr>
            <a:xfrm>
              <a:off x="6628680" y="2630880"/>
              <a:ext cx="2131200" cy="12319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8924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Usage/month 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(quantification)</a:t>
              </a:r>
              <a:br>
                <a:rPr sz="1600"/>
              </a:b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_s198687"/>
            <p:cNvSpPr/>
            <p:nvPr/>
          </p:nvSpPr>
          <p:spPr>
            <a:xfrm flipV="1">
              <a:off x="4647600" y="2581920"/>
              <a:ext cx="0" cy="6210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_s198665"/>
            <p:cNvSpPr/>
            <p:nvPr/>
          </p:nvSpPr>
          <p:spPr>
            <a:xfrm>
              <a:off x="3583800" y="1352160"/>
              <a:ext cx="2131200" cy="12319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89240" tIns="0" bIns="0" anchor="ctr" anchorCtr="1">
              <a:noAutofit/>
            </a:bodyPr>
            <a:p>
              <a:pPr marL="457200" algn="ctr">
                <a:lnSpc>
                  <a:spcPct val="12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Unit of count</a:t>
              </a:r>
              <a:br>
                <a:rPr sz="2100"/>
              </a:b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_s198662"/>
            <p:cNvSpPr/>
            <p:nvPr/>
          </p:nvSpPr>
          <p:spPr>
            <a:xfrm>
              <a:off x="3583800" y="3203640"/>
              <a:ext cx="2131200" cy="123192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89240" tIns="0" bIns="0" anchor="ctr" anchorCtr="1">
              <a:noAutofit/>
            </a:bodyPr>
            <a:p>
              <a:pPr marL="457200" algn="ctr">
                <a:lnSpc>
                  <a:spcPct val="12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Item </a:t>
              </a:r>
              <a:br>
                <a:rPr sz="3000"/>
              </a:b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descriptio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4ABB71-B066-4A37-8491-E8869883065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304920" y="533520"/>
            <a:ext cx="60195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at is Quantific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1905120"/>
            <a:ext cx="7848720" cy="3369960"/>
          </a:xfrm>
          <a:prstGeom prst="rect">
            <a:avLst/>
          </a:prstGeom>
          <a:solidFill>
            <a:srgbClr val="00007d"/>
          </a:solidFill>
          <a:ln w="0">
            <a:noFill/>
          </a:ln>
          <a:effectLst>
            <a:outerShdw dist="107932" dir="2700000" blurRad="0" rotWithShape="0">
              <a:srgbClr val="00007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Verdana"/>
              </a:rPr>
              <a:t>Quantification</a:t>
            </a: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 is a process for calculating how much is required of any particular item for a given period of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1E92EF-C8F2-4F46-A7A1-54C6646E6BC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:  </a:t>
            </a:r>
            <a:r>
              <a:rPr b="1" lang="en-US" sz="3600" spc="-1" strike="noStrike">
                <a:solidFill>
                  <a:srgbClr val="e40202"/>
                </a:solidFill>
                <a:latin typeface="Verdana"/>
              </a:rPr>
              <a:t>Whe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 part of annual health care plan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hen implementing a new health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 preparation for a potential or newly identified epidem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971D0C-8541-4E63-B05E-96710CB9E44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:  </a:t>
            </a:r>
            <a:r>
              <a:rPr b="1" lang="en-US" sz="3600" spc="-1" strike="noStrike">
                <a:solidFill>
                  <a:srgbClr val="e40202"/>
                </a:solidFill>
                <a:latin typeface="Verdana"/>
              </a:rPr>
              <a:t>How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822960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sumption-based method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rbidity-based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37DD2F-6782-4350-9B9A-A59D89E4CCA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: Consumption-bas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6934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ased on the actual us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st take into accoun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ealth supplies actually u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astage–expired or spoiled suppl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pplies out of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stock for mor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than 15 day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during any tim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of the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8" name=""/>
          <p:cNvGraphicFramePr/>
          <p:nvPr/>
        </p:nvGraphicFramePr>
        <p:xfrm>
          <a:off x="4191120" y="3581280"/>
          <a:ext cx="4267080" cy="286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1120" y="3581280"/>
                    <a:ext cx="4267080" cy="2860920"/>
                  </a:xfrm>
                  <a:prstGeom prst="rect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8F5260-7F68-4DBF-8C01-874780E04EE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: Morbidity-bas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ased on the actual number of episodes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ust take into accoun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opulation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ease inc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curacy of morbidity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eatment guide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2" name=""/>
          <p:cNvGraphicFramePr/>
          <p:nvPr/>
        </p:nvGraphicFramePr>
        <p:xfrm>
          <a:off x="5486400" y="2209680"/>
          <a:ext cx="3429000" cy="403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2209680"/>
                    <a:ext cx="3429000" cy="4038840"/>
                  </a:xfrm>
                  <a:prstGeom prst="rect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F48F3F-723F-4CC9-94C1-1A292F4A2B7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ventory Control: Docu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intain recor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recei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t nu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ss or fail acceptance crit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placed in service or dispos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y be useful to kee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s in stockroo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5105520" y="4038480"/>
            <a:ext cx="2361960" cy="238140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"/>
          <p:cNvPicPr/>
          <p:nvPr/>
        </p:nvPicPr>
        <p:blipFill>
          <a:blip r:embed="rId2"/>
          <a:stretch/>
        </p:blipFill>
        <p:spPr>
          <a:xfrm rot="2522400">
            <a:off x="6997320" y="5011560"/>
            <a:ext cx="1600200" cy="147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528204-F0C8-4251-9B78-BF027FE9E3C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8" name="Object 2"/>
          <p:cNvGraphicFramePr/>
          <p:nvPr/>
        </p:nvGraphicFramePr>
        <p:xfrm>
          <a:off x="4572000" y="1371600"/>
          <a:ext cx="457200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1371600"/>
                    <a:ext cx="457200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Stock Logboo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419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clud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name and sign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ate of rece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quant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ate of expi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inimum st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tock bal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Other inform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helf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est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3"/>
          <a:stretch/>
        </p:blipFill>
        <p:spPr>
          <a:xfrm>
            <a:off x="5029200" y="3429000"/>
            <a:ext cx="3333600" cy="27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898557-7F21-48B4-ACA4-AA740B67142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the steps required to implement an inventory control progra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ame factors to consider in procurement of suppl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a monitoring plan for the inventory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uss the importance of documentation related to purchasing and invento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BBB48B-BD8C-4B9E-9BDB-73C4EB93B65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87631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Inspect new orders at time of deliv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erify cont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eck integ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 date each item recei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 expiration d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ore new shipment behi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isting shi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reate or update rec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5791320" y="3657600"/>
            <a:ext cx="2381040" cy="2133720"/>
          </a:xfrm>
          <a:prstGeom prst="rect">
            <a:avLst/>
          </a:prstGeom>
          <a:ln w="0">
            <a:noFill/>
          </a:ln>
        </p:spPr>
      </p:pic>
      <p:pic>
        <p:nvPicPr>
          <p:cNvPr id="316" name="" descr=""/>
          <p:cNvPicPr/>
          <p:nvPr/>
        </p:nvPicPr>
        <p:blipFill>
          <a:blip r:embed="rId2"/>
          <a:stretch/>
        </p:blipFill>
        <p:spPr>
          <a:xfrm>
            <a:off x="6526080" y="1295280"/>
            <a:ext cx="2130480" cy="2590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43BB0F-96C0-4838-A1CE-4D62F5A5FAC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orage of Inven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5029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torero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e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rganiz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ck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ell-ventila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o direct sunligh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ood, sturdy shelv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tems within re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fety precautions</a:t>
            </a:r>
            <a:br>
              <a:rPr sz="28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vail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rcRect l="10457" t="0" r="19171" b="0"/>
          <a:stretch/>
        </p:blipFill>
        <p:spPr>
          <a:xfrm>
            <a:off x="5029200" y="1219320"/>
            <a:ext cx="3692520" cy="3643200"/>
          </a:xfrm>
          <a:prstGeom prst="rect">
            <a:avLst/>
          </a:prstGeom>
          <a:ln w="0">
            <a:noFill/>
          </a:ln>
        </p:spPr>
      </p:pic>
      <p:pic>
        <p:nvPicPr>
          <p:cNvPr id="320" name="" descr=""/>
          <p:cNvPicPr/>
          <p:nvPr/>
        </p:nvPicPr>
        <p:blipFill>
          <a:blip r:embed="rId2"/>
          <a:srcRect l="0" t="31201" r="36800" b="0"/>
          <a:stretch/>
        </p:blipFill>
        <p:spPr>
          <a:xfrm>
            <a:off x="5029200" y="3657600"/>
            <a:ext cx="3689280" cy="267660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/>
          <p:nvPr/>
        </p:nvSpPr>
        <p:spPr>
          <a:xfrm>
            <a:off x="6019920" y="3962520"/>
            <a:ext cx="2133360" cy="2057400"/>
          </a:xfrm>
          <a:prstGeom prst="noSmoking">
            <a:avLst>
              <a:gd name="adj" fmla="val 12500"/>
            </a:avLst>
          </a:pr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3"/>
          <a:stretch/>
        </p:blipFill>
        <p:spPr>
          <a:xfrm>
            <a:off x="6019920" y="1523880"/>
            <a:ext cx="1844640" cy="1933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3AF545-5187-4BB5-8B45-7600EB66155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Shelv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1"/>
          <a:stretch/>
        </p:blipFill>
        <p:spPr>
          <a:xfrm>
            <a:off x="3581280" y="4724280"/>
            <a:ext cx="1946520" cy="154008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/>
          <p:nvPr/>
        </p:nvSpPr>
        <p:spPr>
          <a:xfrm>
            <a:off x="457200" y="1295280"/>
            <a:ext cx="2286000" cy="7621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>
            <a:off x="457200" y="1447920"/>
            <a:ext cx="4672080" cy="382572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/>
          <p:nvPr/>
        </p:nvSpPr>
        <p:spPr>
          <a:xfrm>
            <a:off x="685800" y="5334120"/>
            <a:ext cx="29718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Follow safety preca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3"/>
          <a:stretch/>
        </p:blipFill>
        <p:spPr>
          <a:xfrm>
            <a:off x="5181480" y="1447920"/>
            <a:ext cx="3013200" cy="3124080"/>
          </a:xfrm>
          <a:prstGeom prst="rect">
            <a:avLst/>
          </a:prstGeom>
          <a:ln w="0">
            <a:noFill/>
          </a:ln>
        </p:spPr>
      </p:pic>
      <p:pic>
        <p:nvPicPr>
          <p:cNvPr id="329" name="" descr=""/>
          <p:cNvPicPr/>
          <p:nvPr/>
        </p:nvPicPr>
        <p:blipFill>
          <a:blip r:embed="rId4"/>
          <a:stretch/>
        </p:blipFill>
        <p:spPr>
          <a:xfrm>
            <a:off x="7010280" y="3352680"/>
            <a:ext cx="2133720" cy="187956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685800" y="2590920"/>
            <a:ext cx="685800" cy="23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572000" y="4343400"/>
            <a:ext cx="2133720" cy="2057400"/>
          </a:xfrm>
          <a:prstGeom prst="noSmoking">
            <a:avLst>
              <a:gd name="adj" fmla="val 12500"/>
            </a:avLst>
          </a:pr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39D3AB-0502-497F-8A4E-9F1555FDDF6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Shelf Organiz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voids “losing” a produ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aves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ystemizes storage 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Number cold ro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or refrige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nd freezers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label shel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1"/>
          <a:stretch/>
        </p:blipFill>
        <p:spPr>
          <a:xfrm>
            <a:off x="5562720" y="1523880"/>
            <a:ext cx="3429000" cy="2889360"/>
          </a:xfrm>
          <a:prstGeom prst="rect">
            <a:avLst/>
          </a:prstGeom>
          <a:ln w="0">
            <a:noFill/>
          </a:ln>
        </p:spPr>
      </p:pic>
      <p:pic>
        <p:nvPicPr>
          <p:cNvPr id="335" name="" descr=""/>
          <p:cNvPicPr/>
          <p:nvPr/>
        </p:nvPicPr>
        <p:blipFill>
          <a:blip r:embed="rId2"/>
          <a:srcRect l="0" t="0" r="0" b="25408"/>
          <a:stretch/>
        </p:blipFill>
        <p:spPr>
          <a:xfrm>
            <a:off x="3429000" y="4267080"/>
            <a:ext cx="3703680" cy="194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402418-E13B-4087-807A-6D6D86902DB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Use clearly visible dating labe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800100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ate op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ate expi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Picture 4" descr=""/>
          <p:cNvPicPr/>
          <p:nvPr/>
        </p:nvPicPr>
        <p:blipFill>
          <a:blip r:embed="rId1"/>
          <a:stretch/>
        </p:blipFill>
        <p:spPr>
          <a:xfrm>
            <a:off x="3276720" y="2743200"/>
            <a:ext cx="4343400" cy="302724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4495680" y="3657600"/>
            <a:ext cx="2743200" cy="685800"/>
          </a:xfrm>
          <a:prstGeom prst="flowChartAlternateProcess">
            <a:avLst/>
          </a:prstGeom>
          <a:noFill/>
          <a:ln w="9360">
            <a:solidFill>
              <a:srgbClr val="e4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514600" y="3581280"/>
            <a:ext cx="1981080" cy="609840"/>
          </a:xfrm>
          <a:prstGeom prst="rightArrow">
            <a:avLst>
              <a:gd name="adj1" fmla="val 50000"/>
              <a:gd name="adj2" fmla="val 81213"/>
            </a:avLst>
          </a:pr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876920" y="3429000"/>
            <a:ext cx="220968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7162920" y="3352680"/>
            <a:ext cx="1600200" cy="381240"/>
          </a:xfrm>
          <a:prstGeom prst="leftArrow">
            <a:avLst>
              <a:gd name="adj1" fmla="val 50000"/>
              <a:gd name="adj2" fmla="val 10493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A21549-4591-4166-8371-C81601139CD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ntinuous Monitoring of Inven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3048120" y="1371600"/>
            <a:ext cx="3047760" cy="129528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943600" y="3276720"/>
            <a:ext cx="2743200" cy="1447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3200400" y="4876920"/>
            <a:ext cx="2666880" cy="152388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838080" y="3200400"/>
            <a:ext cx="2210040" cy="152388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2743200" y="1371600"/>
            <a:ext cx="32004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sign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048120" y="525780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duct weekly physical coun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533520" y="3429000"/>
            <a:ext cx="20574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c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791320" y="3352680"/>
            <a:ext cx="281916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intain </a:t>
            </a:r>
            <a:br>
              <a:rPr sz="20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ventory system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 all storage ar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666880" y="2438280"/>
            <a:ext cx="3733920" cy="2895840"/>
          </a:xfrm>
          <a:custGeom>
            <a:avLst/>
            <a:gdLst>
              <a:gd name="textAreaLeft" fmla="*/ 933480 w 3733920"/>
              <a:gd name="textAreaRight" fmla="*/ 2800440 w 3733920"/>
              <a:gd name="textAreaTop" fmla="*/ 723960 h 2895840"/>
              <a:gd name="textAreaBottom" fmla="*/ 2171880 h 289584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048120" y="3352680"/>
            <a:ext cx="2438280" cy="16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ventory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FD7BDB-E22B-42A1-94A1-FC5332DAD72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Computerized Stock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Advantag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xact current state of stock, product class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anagement of expiration d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tatistics </a:t>
            </a: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planning purchase or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anagement of possible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akes inventory tasks easi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Drawback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 on-site computer is nee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equires trained sta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1"/>
          <a:srcRect l="5000" t="2667" r="18000" b="4000"/>
          <a:stretch/>
        </p:blipFill>
        <p:spPr>
          <a:xfrm>
            <a:off x="5638680" y="3505320"/>
            <a:ext cx="2895840" cy="2631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A43591-C7C2-4F4B-B438-2EC6FFEC61E6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well-managed laboratory will have a system for inventory maintenance and purcha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ystem will require planning and monitoring: analyzing needs, developing forms and procedures, and maintaining an inventory. The laboratory will maintain an inventory system for all reagents and supplies used in the laborato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FA2AC4-FE89-4A21-B1CE-1451FB7B3F6B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naging inventory results in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creased laboratory efficiency and effective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urance that patient or clinical needs are m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ducts available when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F09545-99DE-4996-9ED7-F2DC77B86F52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866920" y="762120"/>
            <a:ext cx="304812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85800" y="762120"/>
            <a:ext cx="5181480" cy="5409720"/>
            <a:chOff x="685800" y="762120"/>
            <a:chExt cx="5181480" cy="5409720"/>
          </a:xfrm>
        </p:grpSpPr>
        <p:sp>
          <p:nvSpPr>
            <p:cNvPr id="363" name="AutoShape 4"/>
            <p:cNvSpPr/>
            <p:nvPr/>
          </p:nvSpPr>
          <p:spPr>
            <a:xfrm>
              <a:off x="685800" y="7621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9"/>
            <p:cNvSpPr/>
            <p:nvPr/>
          </p:nvSpPr>
          <p:spPr>
            <a:xfrm>
              <a:off x="2930400" y="36097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10"/>
            <p:cNvSpPr/>
            <p:nvPr/>
          </p:nvSpPr>
          <p:spPr>
            <a:xfrm>
              <a:off x="2898720" y="36014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11"/>
            <p:cNvSpPr/>
            <p:nvPr/>
          </p:nvSpPr>
          <p:spPr>
            <a:xfrm>
              <a:off x="2898720" y="36014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12"/>
            <p:cNvSpPr/>
            <p:nvPr/>
          </p:nvSpPr>
          <p:spPr>
            <a:xfrm>
              <a:off x="3160440" y="23068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13"/>
            <p:cNvSpPr/>
            <p:nvPr/>
          </p:nvSpPr>
          <p:spPr>
            <a:xfrm>
              <a:off x="3160440" y="23068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16"/>
            <p:cNvSpPr/>
            <p:nvPr/>
          </p:nvSpPr>
          <p:spPr>
            <a:xfrm>
              <a:off x="1565280" y="29678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22"/>
            <p:cNvSpPr/>
            <p:nvPr/>
          </p:nvSpPr>
          <p:spPr>
            <a:xfrm>
              <a:off x="1554120" y="29048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Line 24"/>
            <p:cNvSpPr/>
            <p:nvPr/>
          </p:nvSpPr>
          <p:spPr>
            <a:xfrm flipH="1" flipV="1">
              <a:off x="3339720" y="57686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Line 25"/>
            <p:cNvSpPr/>
            <p:nvPr/>
          </p:nvSpPr>
          <p:spPr>
            <a:xfrm flipV="1">
              <a:off x="3078000" y="45975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Line 27"/>
            <p:cNvSpPr/>
            <p:nvPr/>
          </p:nvSpPr>
          <p:spPr>
            <a:xfrm>
              <a:off x="4876560" y="14281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Line 27"/>
            <p:cNvSpPr/>
            <p:nvPr/>
          </p:nvSpPr>
          <p:spPr>
            <a:xfrm>
              <a:off x="3276360" y="15872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Line 27"/>
            <p:cNvSpPr/>
            <p:nvPr/>
          </p:nvSpPr>
          <p:spPr>
            <a:xfrm>
              <a:off x="1600200" y="16369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Line 27"/>
            <p:cNvSpPr/>
            <p:nvPr/>
          </p:nvSpPr>
          <p:spPr>
            <a:xfrm flipH="1">
              <a:off x="1294920" y="14760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7" name="Group 65"/>
            <p:cNvGrpSpPr/>
            <p:nvPr/>
          </p:nvGrpSpPr>
          <p:grpSpPr>
            <a:xfrm>
              <a:off x="990360" y="854640"/>
              <a:ext cx="1261800" cy="1189800"/>
              <a:chOff x="990360" y="854640"/>
              <a:chExt cx="1261800" cy="1189800"/>
            </a:xfrm>
          </p:grpSpPr>
          <p:grpSp>
            <p:nvGrpSpPr>
              <p:cNvPr id="378" name="Group 66"/>
              <p:cNvGrpSpPr/>
              <p:nvPr/>
            </p:nvGrpSpPr>
            <p:grpSpPr>
              <a:xfrm>
                <a:off x="990360" y="854640"/>
                <a:ext cx="1239120" cy="1189800"/>
                <a:chOff x="990360" y="854640"/>
                <a:chExt cx="1239120" cy="1189800"/>
              </a:xfrm>
            </p:grpSpPr>
            <p:grpSp>
              <p:nvGrpSpPr>
                <p:cNvPr id="379" name="Group 67"/>
                <p:cNvGrpSpPr/>
                <p:nvPr/>
              </p:nvGrpSpPr>
              <p:grpSpPr>
                <a:xfrm>
                  <a:off x="1041840" y="854640"/>
                  <a:ext cx="1152360" cy="1189800"/>
                  <a:chOff x="1041840" y="854640"/>
                  <a:chExt cx="1152360" cy="1189800"/>
                </a:xfrm>
              </p:grpSpPr>
              <p:sp>
                <p:nvSpPr>
                  <p:cNvPr id="380" name="Freeform 68"/>
                  <p:cNvSpPr/>
                  <p:nvPr/>
                </p:nvSpPr>
                <p:spPr>
                  <a:xfrm>
                    <a:off x="1041840" y="8546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1" name="Freeform 69"/>
                  <p:cNvSpPr/>
                  <p:nvPr/>
                </p:nvSpPr>
                <p:spPr>
                  <a:xfrm>
                    <a:off x="1041840" y="8546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2" name="Text Box 70"/>
                <p:cNvSpPr/>
                <p:nvPr/>
              </p:nvSpPr>
              <p:spPr>
                <a:xfrm>
                  <a:off x="990360" y="11289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3" name="Text Box 71"/>
              <p:cNvSpPr/>
              <p:nvPr/>
            </p:nvSpPr>
            <p:spPr>
              <a:xfrm>
                <a:off x="1013040" y="12765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4" name="Group 72"/>
            <p:cNvGrpSpPr/>
            <p:nvPr/>
          </p:nvGrpSpPr>
          <p:grpSpPr>
            <a:xfrm>
              <a:off x="2646360" y="854640"/>
              <a:ext cx="1239840" cy="1189800"/>
              <a:chOff x="2646360" y="854640"/>
              <a:chExt cx="1239840" cy="1189800"/>
            </a:xfrm>
          </p:grpSpPr>
          <p:sp>
            <p:nvSpPr>
              <p:cNvPr id="385" name="Freeform 73"/>
              <p:cNvSpPr/>
              <p:nvPr/>
            </p:nvSpPr>
            <p:spPr>
              <a:xfrm>
                <a:off x="2687040" y="8546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Text Box 74"/>
              <p:cNvSpPr/>
              <p:nvPr/>
            </p:nvSpPr>
            <p:spPr>
              <a:xfrm>
                <a:off x="2646360" y="12765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7" name="Group 75"/>
            <p:cNvGrpSpPr/>
            <p:nvPr/>
          </p:nvGrpSpPr>
          <p:grpSpPr>
            <a:xfrm>
              <a:off x="4246560" y="854640"/>
              <a:ext cx="1239840" cy="1189800"/>
              <a:chOff x="4246560" y="854640"/>
              <a:chExt cx="1239840" cy="1189800"/>
            </a:xfrm>
          </p:grpSpPr>
          <p:grpSp>
            <p:nvGrpSpPr>
              <p:cNvPr id="388" name="Group 76"/>
              <p:cNvGrpSpPr/>
              <p:nvPr/>
            </p:nvGrpSpPr>
            <p:grpSpPr>
              <a:xfrm>
                <a:off x="4291920" y="854640"/>
                <a:ext cx="1153080" cy="1189800"/>
                <a:chOff x="4291920" y="854640"/>
                <a:chExt cx="1153080" cy="1189800"/>
              </a:xfrm>
            </p:grpSpPr>
            <p:sp>
              <p:nvSpPr>
                <p:cNvPr id="389" name="Freeform 77"/>
                <p:cNvSpPr/>
                <p:nvPr/>
              </p:nvSpPr>
              <p:spPr>
                <a:xfrm>
                  <a:off x="4291920" y="8546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0" name="Freeform 78"/>
                <p:cNvSpPr/>
                <p:nvPr/>
              </p:nvSpPr>
              <p:spPr>
                <a:xfrm>
                  <a:off x="4291920" y="8546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91" name="Text Box 79"/>
              <p:cNvSpPr/>
              <p:nvPr/>
            </p:nvSpPr>
            <p:spPr>
              <a:xfrm>
                <a:off x="4246560" y="12808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2" name="Line 27"/>
            <p:cNvSpPr/>
            <p:nvPr/>
          </p:nvSpPr>
          <p:spPr>
            <a:xfrm flipH="1">
              <a:off x="1371240" y="28288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3" name=""/>
            <p:cNvGrpSpPr/>
            <p:nvPr/>
          </p:nvGrpSpPr>
          <p:grpSpPr>
            <a:xfrm>
              <a:off x="990360" y="2194200"/>
              <a:ext cx="1241280" cy="1189440"/>
              <a:chOff x="990360" y="2194200"/>
              <a:chExt cx="1241280" cy="1189440"/>
            </a:xfrm>
          </p:grpSpPr>
          <p:sp>
            <p:nvSpPr>
              <p:cNvPr id="394" name="Freeform 46"/>
              <p:cNvSpPr/>
              <p:nvPr/>
            </p:nvSpPr>
            <p:spPr>
              <a:xfrm>
                <a:off x="995040" y="21942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Text Box 47"/>
              <p:cNvSpPr/>
              <p:nvPr/>
            </p:nvSpPr>
            <p:spPr>
              <a:xfrm>
                <a:off x="990360" y="24807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6" name="Freeform 31"/>
            <p:cNvSpPr/>
            <p:nvPr/>
          </p:nvSpPr>
          <p:spPr>
            <a:xfrm>
              <a:off x="2695320" y="22568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Text Box 43"/>
            <p:cNvSpPr/>
            <p:nvPr/>
          </p:nvSpPr>
          <p:spPr>
            <a:xfrm>
              <a:off x="2735280" y="22734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8" name=""/>
            <p:cNvGrpSpPr/>
            <p:nvPr/>
          </p:nvGrpSpPr>
          <p:grpSpPr>
            <a:xfrm>
              <a:off x="4190760" y="2212200"/>
              <a:ext cx="1336680" cy="1189440"/>
              <a:chOff x="4190760" y="2212200"/>
              <a:chExt cx="1336680" cy="1189440"/>
            </a:xfrm>
          </p:grpSpPr>
          <p:sp>
            <p:nvSpPr>
              <p:cNvPr id="399" name="Freeform 48"/>
              <p:cNvSpPr/>
              <p:nvPr/>
            </p:nvSpPr>
            <p:spPr>
              <a:xfrm>
                <a:off x="4267080" y="22122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Text Box 55"/>
              <p:cNvSpPr/>
              <p:nvPr/>
            </p:nvSpPr>
            <p:spPr>
              <a:xfrm>
                <a:off x="4190760" y="25120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1" name="Line 27"/>
            <p:cNvSpPr/>
            <p:nvPr/>
          </p:nvSpPr>
          <p:spPr>
            <a:xfrm flipH="1">
              <a:off x="1294920" y="41036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2" name=""/>
            <p:cNvGrpSpPr/>
            <p:nvPr/>
          </p:nvGrpSpPr>
          <p:grpSpPr>
            <a:xfrm>
              <a:off x="990360" y="3553200"/>
              <a:ext cx="1239840" cy="1190880"/>
              <a:chOff x="990360" y="3553200"/>
              <a:chExt cx="1239840" cy="1190880"/>
            </a:xfrm>
          </p:grpSpPr>
          <p:sp>
            <p:nvSpPr>
              <p:cNvPr id="403" name="Freeform 81"/>
              <p:cNvSpPr/>
              <p:nvPr/>
            </p:nvSpPr>
            <p:spPr>
              <a:xfrm>
                <a:off x="1022400" y="35532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Text Box 82"/>
              <p:cNvSpPr/>
              <p:nvPr/>
            </p:nvSpPr>
            <p:spPr>
              <a:xfrm>
                <a:off x="990360" y="37850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5" name=""/>
            <p:cNvGrpSpPr/>
            <p:nvPr/>
          </p:nvGrpSpPr>
          <p:grpSpPr>
            <a:xfrm>
              <a:off x="2646360" y="3553200"/>
              <a:ext cx="1239840" cy="1190880"/>
              <a:chOff x="2646360" y="3553200"/>
              <a:chExt cx="1239840" cy="1190880"/>
            </a:xfrm>
          </p:grpSpPr>
          <p:sp>
            <p:nvSpPr>
              <p:cNvPr id="406" name="Freeform 30"/>
              <p:cNvSpPr/>
              <p:nvPr/>
            </p:nvSpPr>
            <p:spPr>
              <a:xfrm>
                <a:off x="2673360" y="35532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Text Box 54"/>
              <p:cNvSpPr/>
              <p:nvPr/>
            </p:nvSpPr>
            <p:spPr>
              <a:xfrm>
                <a:off x="2646360" y="38034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8" name="Freeform 50"/>
            <p:cNvSpPr/>
            <p:nvPr/>
          </p:nvSpPr>
          <p:spPr>
            <a:xfrm>
              <a:off x="4267080" y="35463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Text Box 51"/>
            <p:cNvSpPr/>
            <p:nvPr/>
          </p:nvSpPr>
          <p:spPr>
            <a:xfrm>
              <a:off x="4246560" y="36262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27"/>
            <p:cNvSpPr/>
            <p:nvPr/>
          </p:nvSpPr>
          <p:spPr>
            <a:xfrm flipH="1">
              <a:off x="1371240" y="54543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1" name=""/>
            <p:cNvGrpSpPr/>
            <p:nvPr/>
          </p:nvGrpSpPr>
          <p:grpSpPr>
            <a:xfrm>
              <a:off x="914400" y="4902120"/>
              <a:ext cx="1420560" cy="1189440"/>
              <a:chOff x="914400" y="4902120"/>
              <a:chExt cx="1420560" cy="1189440"/>
            </a:xfrm>
          </p:grpSpPr>
          <p:sp>
            <p:nvSpPr>
              <p:cNvPr id="412" name="Freeform 57"/>
              <p:cNvSpPr/>
              <p:nvPr/>
            </p:nvSpPr>
            <p:spPr>
              <a:xfrm>
                <a:off x="1063440" y="49021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Text Box 58"/>
              <p:cNvSpPr/>
              <p:nvPr/>
            </p:nvSpPr>
            <p:spPr>
              <a:xfrm>
                <a:off x="914400" y="51372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4" name=""/>
            <p:cNvGrpSpPr/>
            <p:nvPr/>
          </p:nvGrpSpPr>
          <p:grpSpPr>
            <a:xfrm>
              <a:off x="2646360" y="4834080"/>
              <a:ext cx="1239840" cy="1189800"/>
              <a:chOff x="2646360" y="4834080"/>
              <a:chExt cx="1239840" cy="1189800"/>
            </a:xfrm>
          </p:grpSpPr>
          <p:sp>
            <p:nvSpPr>
              <p:cNvPr id="415" name="Freeform 34"/>
              <p:cNvSpPr/>
              <p:nvPr/>
            </p:nvSpPr>
            <p:spPr>
              <a:xfrm>
                <a:off x="2695320" y="48340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Text Box 61"/>
              <p:cNvSpPr/>
              <p:nvPr/>
            </p:nvSpPr>
            <p:spPr>
              <a:xfrm>
                <a:off x="2646360" y="51372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7" name=""/>
            <p:cNvGrpSpPr/>
            <p:nvPr/>
          </p:nvGrpSpPr>
          <p:grpSpPr>
            <a:xfrm>
              <a:off x="4267080" y="4902120"/>
              <a:ext cx="1239840" cy="1189440"/>
              <a:chOff x="4267080" y="4902120"/>
              <a:chExt cx="1239840" cy="1189440"/>
            </a:xfrm>
          </p:grpSpPr>
          <p:sp>
            <p:nvSpPr>
              <p:cNvPr id="418" name="Freeform 63"/>
              <p:cNvSpPr/>
              <p:nvPr/>
            </p:nvSpPr>
            <p:spPr>
              <a:xfrm>
                <a:off x="4286160" y="49021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Text Box 64"/>
              <p:cNvSpPr/>
              <p:nvPr/>
            </p:nvSpPr>
            <p:spPr>
              <a:xfrm>
                <a:off x="4267080" y="51372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E0906D-2864-4431-A6BB-0D657A556C10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Your laboratory is asked to gear up for a potential flu epidemic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.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at purchasing and inventory factors do you need to consider in planning for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s proces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12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at problems might you encounter in planning and implementation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D3B01F-ADCA-457A-8ABF-CC77FD64117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040" y="457200"/>
            <a:ext cx="80010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2133720" y="990720"/>
            <a:ext cx="5181480" cy="5409720"/>
            <a:chOff x="2133720" y="990720"/>
            <a:chExt cx="5181480" cy="5409720"/>
          </a:xfrm>
        </p:grpSpPr>
        <p:sp>
          <p:nvSpPr>
            <p:cNvPr id="135" name="AutoShape 4"/>
            <p:cNvSpPr/>
            <p:nvPr/>
          </p:nvSpPr>
          <p:spPr>
            <a:xfrm>
              <a:off x="2133720" y="9907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9"/>
            <p:cNvSpPr/>
            <p:nvPr/>
          </p:nvSpPr>
          <p:spPr>
            <a:xfrm>
              <a:off x="4378320" y="38383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0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1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2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3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6"/>
            <p:cNvSpPr/>
            <p:nvPr/>
          </p:nvSpPr>
          <p:spPr>
            <a:xfrm>
              <a:off x="3013200" y="31964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22"/>
            <p:cNvSpPr/>
            <p:nvPr/>
          </p:nvSpPr>
          <p:spPr>
            <a:xfrm>
              <a:off x="3002040" y="31334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4"/>
            <p:cNvSpPr/>
            <p:nvPr/>
          </p:nvSpPr>
          <p:spPr>
            <a:xfrm flipH="1" flipV="1">
              <a:off x="4787640" y="59972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5"/>
            <p:cNvSpPr/>
            <p:nvPr/>
          </p:nvSpPr>
          <p:spPr>
            <a:xfrm flipV="1">
              <a:off x="4525920" y="48261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7"/>
            <p:cNvSpPr/>
            <p:nvPr/>
          </p:nvSpPr>
          <p:spPr>
            <a:xfrm>
              <a:off x="6324480" y="16567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>
              <a:off x="4724280" y="18158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>
              <a:off x="3048120" y="18655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27"/>
            <p:cNvSpPr/>
            <p:nvPr/>
          </p:nvSpPr>
          <p:spPr>
            <a:xfrm flipH="1">
              <a:off x="2742840" y="17046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9" name="Group 65"/>
            <p:cNvGrpSpPr/>
            <p:nvPr/>
          </p:nvGrpSpPr>
          <p:grpSpPr>
            <a:xfrm>
              <a:off x="2438280" y="1083240"/>
              <a:ext cx="1261800" cy="1189800"/>
              <a:chOff x="2438280" y="1083240"/>
              <a:chExt cx="1261800" cy="1189800"/>
            </a:xfrm>
          </p:grpSpPr>
          <p:grpSp>
            <p:nvGrpSpPr>
              <p:cNvPr id="150" name="Group 66"/>
              <p:cNvGrpSpPr/>
              <p:nvPr/>
            </p:nvGrpSpPr>
            <p:grpSpPr>
              <a:xfrm>
                <a:off x="2438280" y="1083240"/>
                <a:ext cx="1239120" cy="1189800"/>
                <a:chOff x="2438280" y="1083240"/>
                <a:chExt cx="1239120" cy="1189800"/>
              </a:xfrm>
            </p:grpSpPr>
            <p:grpSp>
              <p:nvGrpSpPr>
                <p:cNvPr id="151" name="Group 67"/>
                <p:cNvGrpSpPr/>
                <p:nvPr/>
              </p:nvGrpSpPr>
              <p:grpSpPr>
                <a:xfrm>
                  <a:off x="2489760" y="1083240"/>
                  <a:ext cx="1152360" cy="1189800"/>
                  <a:chOff x="2489760" y="1083240"/>
                  <a:chExt cx="1152360" cy="1189800"/>
                </a:xfrm>
              </p:grpSpPr>
              <p:sp>
                <p:nvSpPr>
                  <p:cNvPr id="152" name="Freeform 68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69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Text Box 70"/>
                <p:cNvSpPr/>
                <p:nvPr/>
              </p:nvSpPr>
              <p:spPr>
                <a:xfrm>
                  <a:off x="2438280" y="13575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5" name="Text Box 71"/>
              <p:cNvSpPr/>
              <p:nvPr/>
            </p:nvSpPr>
            <p:spPr>
              <a:xfrm>
                <a:off x="2460960" y="15051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" name="Group 72"/>
            <p:cNvGrpSpPr/>
            <p:nvPr/>
          </p:nvGrpSpPr>
          <p:grpSpPr>
            <a:xfrm>
              <a:off x="4094280" y="1083240"/>
              <a:ext cx="1239840" cy="1189800"/>
              <a:chOff x="4094280" y="1083240"/>
              <a:chExt cx="1239840" cy="1189800"/>
            </a:xfrm>
          </p:grpSpPr>
          <p:sp>
            <p:nvSpPr>
              <p:cNvPr id="157" name="Freeform 73"/>
              <p:cNvSpPr/>
              <p:nvPr/>
            </p:nvSpPr>
            <p:spPr>
              <a:xfrm>
                <a:off x="4134960" y="10832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 Box 74"/>
              <p:cNvSpPr/>
              <p:nvPr/>
            </p:nvSpPr>
            <p:spPr>
              <a:xfrm>
                <a:off x="4094280" y="15051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9" name="Group 75"/>
            <p:cNvGrpSpPr/>
            <p:nvPr/>
          </p:nvGrpSpPr>
          <p:grpSpPr>
            <a:xfrm>
              <a:off x="5694480" y="1083240"/>
              <a:ext cx="1239840" cy="1189800"/>
              <a:chOff x="5694480" y="1083240"/>
              <a:chExt cx="1239840" cy="1189800"/>
            </a:xfrm>
          </p:grpSpPr>
          <p:grpSp>
            <p:nvGrpSpPr>
              <p:cNvPr id="160" name="Group 76"/>
              <p:cNvGrpSpPr/>
              <p:nvPr/>
            </p:nvGrpSpPr>
            <p:grpSpPr>
              <a:xfrm>
                <a:off x="5739840" y="1083240"/>
                <a:ext cx="1153080" cy="1189800"/>
                <a:chOff x="5739840" y="1083240"/>
                <a:chExt cx="1153080" cy="1189800"/>
              </a:xfrm>
            </p:grpSpPr>
            <p:sp>
              <p:nvSpPr>
                <p:cNvPr id="161" name="Freeform 77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Freeform 78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Text Box 79"/>
              <p:cNvSpPr/>
              <p:nvPr/>
            </p:nvSpPr>
            <p:spPr>
              <a:xfrm>
                <a:off x="5694480" y="15094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4" name="Line 27"/>
            <p:cNvSpPr/>
            <p:nvPr/>
          </p:nvSpPr>
          <p:spPr>
            <a:xfrm flipH="1">
              <a:off x="2819160" y="30574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5" name=""/>
            <p:cNvGrpSpPr/>
            <p:nvPr/>
          </p:nvGrpSpPr>
          <p:grpSpPr>
            <a:xfrm>
              <a:off x="2438280" y="2422800"/>
              <a:ext cx="1241280" cy="1189440"/>
              <a:chOff x="2438280" y="2422800"/>
              <a:chExt cx="1241280" cy="1189440"/>
            </a:xfrm>
          </p:grpSpPr>
          <p:sp>
            <p:nvSpPr>
              <p:cNvPr id="166" name="Freeform 46"/>
              <p:cNvSpPr/>
              <p:nvPr/>
            </p:nvSpPr>
            <p:spPr>
              <a:xfrm>
                <a:off x="2442960" y="24228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Text Box 47"/>
              <p:cNvSpPr/>
              <p:nvPr/>
            </p:nvSpPr>
            <p:spPr>
              <a:xfrm>
                <a:off x="2438280" y="27093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8" name="Freeform 31"/>
            <p:cNvSpPr/>
            <p:nvPr/>
          </p:nvSpPr>
          <p:spPr>
            <a:xfrm>
              <a:off x="4143240" y="24854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 Box 43"/>
            <p:cNvSpPr/>
            <p:nvPr/>
          </p:nvSpPr>
          <p:spPr>
            <a:xfrm>
              <a:off x="4183200" y="25020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" name=""/>
            <p:cNvGrpSpPr/>
            <p:nvPr/>
          </p:nvGrpSpPr>
          <p:grpSpPr>
            <a:xfrm>
              <a:off x="5638680" y="2440800"/>
              <a:ext cx="1336680" cy="1189440"/>
              <a:chOff x="5638680" y="2440800"/>
              <a:chExt cx="1336680" cy="1189440"/>
            </a:xfrm>
          </p:grpSpPr>
          <p:sp>
            <p:nvSpPr>
              <p:cNvPr id="171" name="Freeform 48"/>
              <p:cNvSpPr/>
              <p:nvPr/>
            </p:nvSpPr>
            <p:spPr>
              <a:xfrm>
                <a:off x="5715000" y="24408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Text Box 55"/>
              <p:cNvSpPr/>
              <p:nvPr/>
            </p:nvSpPr>
            <p:spPr>
              <a:xfrm>
                <a:off x="5638680" y="27406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3" name="Line 27"/>
            <p:cNvSpPr/>
            <p:nvPr/>
          </p:nvSpPr>
          <p:spPr>
            <a:xfrm flipH="1">
              <a:off x="2742840" y="4332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4" name=""/>
            <p:cNvGrpSpPr/>
            <p:nvPr/>
          </p:nvGrpSpPr>
          <p:grpSpPr>
            <a:xfrm>
              <a:off x="2438280" y="3781800"/>
              <a:ext cx="1239840" cy="1190880"/>
              <a:chOff x="2438280" y="3781800"/>
              <a:chExt cx="1239840" cy="1190880"/>
            </a:xfrm>
          </p:grpSpPr>
          <p:sp>
            <p:nvSpPr>
              <p:cNvPr id="175" name="Freeform 81"/>
              <p:cNvSpPr/>
              <p:nvPr/>
            </p:nvSpPr>
            <p:spPr>
              <a:xfrm>
                <a:off x="2470320" y="37818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Text Box 82"/>
              <p:cNvSpPr/>
              <p:nvPr/>
            </p:nvSpPr>
            <p:spPr>
              <a:xfrm>
                <a:off x="2438280" y="40136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7" name=""/>
            <p:cNvGrpSpPr/>
            <p:nvPr/>
          </p:nvGrpSpPr>
          <p:grpSpPr>
            <a:xfrm>
              <a:off x="4094280" y="3781800"/>
              <a:ext cx="1239840" cy="1190880"/>
              <a:chOff x="4094280" y="3781800"/>
              <a:chExt cx="1239840" cy="1190880"/>
            </a:xfrm>
          </p:grpSpPr>
          <p:sp>
            <p:nvSpPr>
              <p:cNvPr id="178" name="Freeform 30"/>
              <p:cNvSpPr/>
              <p:nvPr/>
            </p:nvSpPr>
            <p:spPr>
              <a:xfrm>
                <a:off x="4121280" y="37818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Text Box 54"/>
              <p:cNvSpPr/>
              <p:nvPr/>
            </p:nvSpPr>
            <p:spPr>
              <a:xfrm>
                <a:off x="4094280" y="40320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0" name="Freeform 50"/>
            <p:cNvSpPr/>
            <p:nvPr/>
          </p:nvSpPr>
          <p:spPr>
            <a:xfrm>
              <a:off x="5715000" y="37749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 Box 51"/>
            <p:cNvSpPr/>
            <p:nvPr/>
          </p:nvSpPr>
          <p:spPr>
            <a:xfrm>
              <a:off x="5694480" y="38548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27"/>
            <p:cNvSpPr/>
            <p:nvPr/>
          </p:nvSpPr>
          <p:spPr>
            <a:xfrm flipH="1">
              <a:off x="2819160" y="56829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3" name=""/>
            <p:cNvGrpSpPr/>
            <p:nvPr/>
          </p:nvGrpSpPr>
          <p:grpSpPr>
            <a:xfrm>
              <a:off x="2362320" y="5130720"/>
              <a:ext cx="1420560" cy="1189440"/>
              <a:chOff x="2362320" y="5130720"/>
              <a:chExt cx="1420560" cy="1189440"/>
            </a:xfrm>
          </p:grpSpPr>
          <p:sp>
            <p:nvSpPr>
              <p:cNvPr id="184" name="Freeform 57"/>
              <p:cNvSpPr/>
              <p:nvPr/>
            </p:nvSpPr>
            <p:spPr>
              <a:xfrm>
                <a:off x="2511360" y="51307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Text Box 58"/>
              <p:cNvSpPr/>
              <p:nvPr/>
            </p:nvSpPr>
            <p:spPr>
              <a:xfrm>
                <a:off x="2362320" y="53658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6" name=""/>
            <p:cNvGrpSpPr/>
            <p:nvPr/>
          </p:nvGrpSpPr>
          <p:grpSpPr>
            <a:xfrm>
              <a:off x="4094280" y="5062680"/>
              <a:ext cx="1239840" cy="1189800"/>
              <a:chOff x="4094280" y="5062680"/>
              <a:chExt cx="1239840" cy="1189800"/>
            </a:xfrm>
          </p:grpSpPr>
          <p:sp>
            <p:nvSpPr>
              <p:cNvPr id="187" name="Freeform 34"/>
              <p:cNvSpPr/>
              <p:nvPr/>
            </p:nvSpPr>
            <p:spPr>
              <a:xfrm>
                <a:off x="4143240" y="50626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Text Box 61"/>
              <p:cNvSpPr/>
              <p:nvPr/>
            </p:nvSpPr>
            <p:spPr>
              <a:xfrm>
                <a:off x="4094280" y="5365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9" name=""/>
            <p:cNvGrpSpPr/>
            <p:nvPr/>
          </p:nvGrpSpPr>
          <p:grpSpPr>
            <a:xfrm>
              <a:off x="5715000" y="5130720"/>
              <a:ext cx="1239840" cy="1189440"/>
              <a:chOff x="5715000" y="5130720"/>
              <a:chExt cx="1239840" cy="1189440"/>
            </a:xfrm>
          </p:grpSpPr>
          <p:sp>
            <p:nvSpPr>
              <p:cNvPr id="190" name="Freeform 63"/>
              <p:cNvSpPr/>
              <p:nvPr/>
            </p:nvSpPr>
            <p:spPr>
              <a:xfrm>
                <a:off x="5734080" y="51307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Text Box 64"/>
              <p:cNvSpPr/>
              <p:nvPr/>
            </p:nvSpPr>
            <p:spPr>
              <a:xfrm>
                <a:off x="5715000" y="53658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CAC984-325E-459E-97B3-868CDFB9F0D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685800" y="609480"/>
            <a:ext cx="7696080" cy="1828800"/>
          </a:xfrm>
          <a:prstGeom prst="flowChartAlternateProcess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Verdana"/>
              </a:rPr>
              <a:t>Benefits of an </a:t>
            </a:r>
            <a:br>
              <a:rPr sz="3200"/>
            </a:br>
            <a:r>
              <a:rPr b="1" lang="en-US" sz="3200" spc="-1" strike="noStrike">
                <a:solidFill>
                  <a:srgbClr val="ffcc00"/>
                </a:solidFill>
                <a:latin typeface="Verdana"/>
              </a:rPr>
              <a:t>Inventory Management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04920" y="2895480"/>
            <a:ext cx="3124080" cy="30481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867280" y="3048120"/>
            <a:ext cx="3048120" cy="2666880"/>
          </a:xfrm>
          <a:prstGeom prst="flowChart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09480" y="3352680"/>
            <a:ext cx="2438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upplies and reagents always  avail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3200400"/>
            <a:ext cx="266688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inimize wastage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ay within bud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6400800" y="4343400"/>
            <a:ext cx="2152800" cy="138096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3200400" y="3200400"/>
            <a:ext cx="2895480" cy="2971800"/>
          </a:xfrm>
          <a:custGeom>
            <a:avLst/>
            <a:gdLst>
              <a:gd name="textAreaLeft" fmla="*/ 660960 w 2895480"/>
              <a:gd name="textAreaRight" fmla="*/ 2234520 w 2895480"/>
              <a:gd name="textAreaTop" fmla="*/ 678240 h 2971800"/>
              <a:gd name="textAreaBottom" fmla="*/ 2293560 h 2971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100000">
                <a:srgbClr val="ffd91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505320" y="4038480"/>
            <a:ext cx="21333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uality maint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rcRect l="36735" t="28750" r="27152" b="59634"/>
          <a:stretch/>
        </p:blipFill>
        <p:spPr>
          <a:xfrm rot="21264600">
            <a:off x="761760" y="4343400"/>
            <a:ext cx="2295360" cy="110664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 flipH="1">
            <a:off x="2590560" y="2438280"/>
            <a:ext cx="53316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572000" y="2438280"/>
            <a:ext cx="0" cy="6098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095880" y="2438280"/>
            <a:ext cx="60984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BE63C8-A773-4A1A-AABC-B825FED3556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6108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Inventory Management Challen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Balance between stock availability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nd expiration dates.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Life-span of laboratory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reagents vari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IA reagents: 3 to 8 wee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PI kits: 4 to 12 mo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tisera: 1 to 4 yea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tibiotic disks: 2 to 3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eady-to-use culture media: 1 to 2 mo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ehydrated culture media: 3 to 5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4724280" y="1828800"/>
            <a:ext cx="3886200" cy="327348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5257800" y="3124080"/>
            <a:ext cx="838080" cy="642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-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391520" y="2895480"/>
            <a:ext cx="914400" cy="9169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xpiry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DAB8B2-BC4F-4585-AEBC-49D6CD66223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Key Components for Purchasing and Inventor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419720" y="2362320"/>
            <a:ext cx="1752480" cy="1371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Ins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Hand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162920" y="3809880"/>
            <a:ext cx="1828800" cy="1752840"/>
          </a:xfrm>
          <a:prstGeom prst="rect">
            <a:avLst/>
          </a:prstGeom>
          <a:solidFill>
            <a:srgbClr val="00007d"/>
          </a:solidFill>
          <a:ln w="57240">
            <a:solidFill>
              <a:srgbClr val="a1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Log bo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Expiry 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Rotate sto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438280" y="4572000"/>
            <a:ext cx="2057400" cy="11430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00007d"/>
                </a:solidFill>
                <a:latin typeface="Arial"/>
              </a:rPr>
              <a:t>Laborato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562720" y="4267080"/>
            <a:ext cx="1066680" cy="1295640"/>
          </a:xfrm>
          <a:prstGeom prst="rect">
            <a:avLst/>
          </a:prstGeom>
          <a:solidFill>
            <a:srgbClr val="a1761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762120" y="5105520"/>
            <a:ext cx="1295280" cy="91440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orato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380880" y="1828800"/>
            <a:ext cx="3504600" cy="2458080"/>
            <a:chOff x="380880" y="1828800"/>
            <a:chExt cx="3504600" cy="2458080"/>
          </a:xfrm>
        </p:grpSpPr>
        <p:cxnSp>
          <p:nvCxnSpPr>
            <p:cNvPr id="216" name="_s180244"/>
            <p:cNvCxnSpPr>
              <a:stCxn id="217" idx="1"/>
              <a:endCxn id="218" idx="2"/>
            </p:cNvCxnSpPr>
            <p:nvPr/>
          </p:nvCxnSpPr>
          <p:spPr>
            <a:xfrm rot="10800000">
              <a:off x="2132640" y="2811240"/>
              <a:ext cx="250920" cy="9838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9" name="_s180243"/>
            <p:cNvCxnSpPr>
              <a:stCxn id="220" idx="3"/>
              <a:endCxn id="218" idx="2"/>
            </p:cNvCxnSpPr>
            <p:nvPr/>
          </p:nvCxnSpPr>
          <p:spPr>
            <a:xfrm flipV="1">
              <a:off x="1882440" y="2811240"/>
              <a:ext cx="250920" cy="9838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18" name="_s180239"/>
            <p:cNvSpPr/>
            <p:nvPr/>
          </p:nvSpPr>
          <p:spPr>
            <a:xfrm>
              <a:off x="1382040" y="1828800"/>
              <a:ext cx="1501920" cy="98316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000000"/>
                </a:buClr>
                <a:buSzPct val="13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Vendor 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Qualification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_s180240"/>
            <p:cNvSpPr/>
            <p:nvPr/>
          </p:nvSpPr>
          <p:spPr>
            <a:xfrm>
              <a:off x="380880" y="3303720"/>
              <a:ext cx="1501920" cy="983160"/>
            </a:xfrm>
            <a:prstGeom prst="roundRect">
              <a:avLst>
                <a:gd name="adj" fmla="val 16667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000000"/>
                </a:buClr>
                <a:buSzPct val="13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urchase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ntrac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_s180241"/>
            <p:cNvSpPr/>
            <p:nvPr/>
          </p:nvSpPr>
          <p:spPr>
            <a:xfrm>
              <a:off x="2383560" y="3303720"/>
              <a:ext cx="1501920" cy="983160"/>
            </a:xfrm>
            <a:prstGeom prst="roundRect">
              <a:avLst>
                <a:gd name="adj" fmla="val 16667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eliver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"/>
          <p:cNvSpPr/>
          <p:nvPr/>
        </p:nvSpPr>
        <p:spPr>
          <a:xfrm>
            <a:off x="5486400" y="5715000"/>
            <a:ext cx="1676520" cy="762120"/>
          </a:xfrm>
          <a:prstGeom prst="octagon">
            <a:avLst>
              <a:gd name="adj" fmla="val 2928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Post use</a:t>
            </a:r>
            <a:br>
              <a:rPr sz="1800"/>
            </a:b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trac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419720" y="3733920"/>
            <a:ext cx="609480" cy="9144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1828440" y="4952880"/>
            <a:ext cx="609480" cy="3812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124080" y="4267080"/>
            <a:ext cx="0" cy="304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6858000" y="5562720"/>
            <a:ext cx="380880" cy="3045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7162920" y="5562720"/>
            <a:ext cx="380880" cy="380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172200" y="5486400"/>
            <a:ext cx="0" cy="228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8077320" y="3352680"/>
            <a:ext cx="0" cy="457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6629400" y="3352680"/>
            <a:ext cx="457200" cy="838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172200" y="2438280"/>
            <a:ext cx="8380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010280" y="1752480"/>
            <a:ext cx="1981440" cy="16837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to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Assess cond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4"/>
          <a:stretch/>
        </p:blipFill>
        <p:spPr>
          <a:xfrm>
            <a:off x="5638680" y="4114800"/>
            <a:ext cx="949320" cy="13716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5181480" y="4572000"/>
            <a:ext cx="14479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1981080" y="5562720"/>
            <a:ext cx="457200" cy="380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1A7EAE-2663-4BFF-8186-4790C061EE0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stablish a System to Qualify and Select Vend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fine criteria for supplies and services to be purcha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e information from other labora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valuate before purchase and after recei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16931E-D608-4523-89DE-58A0CAB3244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urchasing Consider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429000" y="4267080"/>
            <a:ext cx="1981080" cy="1676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termin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yment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chanism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562720" y="3733920"/>
            <a:ext cx="3352680" cy="2743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457200" y="1143000"/>
            <a:ext cx="5409720" cy="2941920"/>
            <a:chOff x="457200" y="1143000"/>
            <a:chExt cx="5409720" cy="2941920"/>
          </a:xfrm>
        </p:grpSpPr>
        <p:cxnSp>
          <p:nvCxnSpPr>
            <p:cNvPr id="241" name="_s182282"/>
            <p:cNvCxnSpPr/>
            <p:nvPr/>
          </p:nvCxnSpPr>
          <p:spPr>
            <a:xfrm rot="10800000">
              <a:off x="3198960" y="2272680"/>
              <a:ext cx="387000" cy="11937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42" name="_s182283"/>
            <p:cNvCxnSpPr/>
            <p:nvPr/>
          </p:nvCxnSpPr>
          <p:spPr>
            <a:xfrm flipV="1">
              <a:off x="2818440" y="2665080"/>
              <a:ext cx="387000" cy="11851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43" name="_s182284"/>
            <p:cNvSpPr/>
            <p:nvPr/>
          </p:nvSpPr>
          <p:spPr>
            <a:xfrm>
              <a:off x="457200" y="1143000"/>
              <a:ext cx="5409720" cy="118836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00000"/>
                </a:buClr>
                <a:buSzPct val="13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_s182285"/>
            <p:cNvSpPr/>
            <p:nvPr/>
          </p:nvSpPr>
          <p:spPr>
            <a:xfrm>
              <a:off x="531720" y="2896560"/>
              <a:ext cx="2321280" cy="118836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ffcc00"/>
                </a:buClr>
                <a:buSzPct val="13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Negotiate pri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_s182286"/>
            <p:cNvSpPr/>
            <p:nvPr/>
          </p:nvSpPr>
          <p:spPr>
            <a:xfrm>
              <a:off x="3505320" y="2665440"/>
              <a:ext cx="2318400" cy="118836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ffcc00"/>
                </a:buClr>
                <a:buSzPct val="13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Review </a:t>
              </a:r>
              <a:br>
                <a:rPr sz="2000"/>
              </a:b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Contrac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"/>
          <p:cNvSpPr/>
          <p:nvPr/>
        </p:nvSpPr>
        <p:spPr>
          <a:xfrm>
            <a:off x="5334120" y="3581280"/>
            <a:ext cx="990360" cy="6858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419720" y="3809880"/>
            <a:ext cx="0" cy="5335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85800" y="1219320"/>
            <a:ext cx="479412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Understand government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438280" y="4114800"/>
            <a:ext cx="99072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304920" y="3809880"/>
            <a:ext cx="1992240" cy="22860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5562720" y="2362320"/>
            <a:ext cx="1218960" cy="112860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3"/>
          <a:stretch/>
        </p:blipFill>
        <p:spPr>
          <a:xfrm>
            <a:off x="6400800" y="4724280"/>
            <a:ext cx="1676520" cy="167652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5638680" y="3886200"/>
            <a:ext cx="3124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sure reliable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vailability, deliv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5E6E78-C1CB-4412-AA6D-039A48392D9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5:33Z</dcterms:modified>
  <cp:revision>109</cp:revision>
  <dc:subject/>
  <dc:title>Slide 1</dc:title>
</cp:coreProperties>
</file>